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D21-4BD5-47B8-8240-589276C6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402-FC3E-4C22-A00D-EC0989F2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A34-040B-4212-96AF-0871DC36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020-8441-4311-B578-93FA17AB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14E-DFDD-4EAD-AA5B-8EBAD7CF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8A0-645E-483E-9C32-F2A3A80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AF2-7D05-4BB0-9233-2F014BDA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11F-4B6E-4E34-AF36-25D4B6F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3A5-5376-4009-B475-678D66C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FA1-B575-4A85-BEAB-89C2391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BDD-37F7-45C2-9F3A-DEC56CD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4E0-0183-4CC5-9B02-3E3C817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10F-6128-4D94-A9B7-B8C7D9AF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 Towel Test La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Collazo’s Sea Lion Scient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9:20:33Z</dcterms:created>
  <dc:creator>LCSuser</dc:creator>
  <dc:description/>
  <dc:language>en-US</dc:language>
  <cp:lastModifiedBy>LCSuser</cp:lastModifiedBy>
  <dcterms:modified xsi:type="dcterms:W3CDTF">2007-10-03T19:21:09Z</dcterms:modified>
  <cp:revision>1</cp:revision>
  <dc:subject/>
  <dc:title>Paper Towel Test Lab September 2007</dc:title>
</cp:coreProperties>
</file>